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8C80-AED2-4209-99D5-15B923394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A813-A8AF-48A1-AED8-387B89DA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2068-BB8E-4DB3-8DC3-85854CACA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4373-451D-4C40-BDB9-D4C228EFC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85BD-8446-45D0-9702-D376A21E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2921-B4A1-4F57-839F-AC6AE415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FD7E-B9F4-4F5E-BAEA-79B0A8BB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7DEA-2311-4AF3-A7D3-730F195C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716B-3F98-4834-937A-94D3FDC8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26D7-5A83-4183-BA1C-F7CF933C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D15C-0498-4CA1-9C8B-62627760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5560-5A75-463C-815A-E570E2EF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27E8-F0C2-4D96-AD86-97635B45B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1287869xQRiyRyaRq_ph" descr=""/>
          <p:cNvPicPr/>
          <p:nvPr/>
        </p:nvPicPr>
        <p:blipFill>
          <a:blip r:embed="rId1"/>
          <a:stretch/>
        </p:blipFill>
        <p:spPr>
          <a:xfrm>
            <a:off x="3352680" y="0"/>
            <a:ext cx="61977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04920"/>
            <a:ext cx="30481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الصوم يُفتح بابُ السماءِ مَن صام يُمنح مُلك العلاءِ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15325118wOgIICHEKd_ph" descr=""/>
          <p:cNvPicPr/>
          <p:nvPr/>
        </p:nvPicPr>
        <p:blipFill>
          <a:blip r:embed="rId1"/>
          <a:stretch/>
        </p:blipFill>
        <p:spPr>
          <a:xfrm>
            <a:off x="3143160" y="0"/>
            <a:ext cx="60008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685800"/>
            <a:ext cx="25909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ربُّ العلاءِ يُعلي مقاما مَن بالنقاءِ يقضي الصياما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3760642WcABmRMkZD_ph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228600"/>
            <a:ext cx="2133720" cy="10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ربي حياتي هَبني غُفرانا واقبل صلاتي صومي قربانا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07:29:08Z</dcterms:created>
  <dc:creator>SUZANNE.MD</dc:creator>
  <dc:description/>
  <dc:language>en-US</dc:language>
  <cp:lastModifiedBy>USER</cp:lastModifiedBy>
  <dcterms:modified xsi:type="dcterms:W3CDTF">2003-03-03T15:01:39Z</dcterms:modified>
  <cp:revision>2</cp:revision>
  <dc:subject/>
  <dc:title>PowerPoint Presentation</dc:title>
</cp:coreProperties>
</file>